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A9CAA7-6AC8-4131-B53E-F63039E7D1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01D0A9-4957-42A6-95EA-EEA9F4EAF9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DB41D9-B678-4439-990F-E053BE301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0F7653-4F6E-4BD0-85AC-11D240BB06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ADE078-2D71-492C-8CCB-179D507879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728338-09C7-4802-9E85-CF2F4FBDBC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4AE4A-52EE-4D50-92B4-1E9A181A4B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9FB02-BDE5-4AB6-8EB0-D930AEE5A4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41C9C2-0C9F-4689-977B-C4C3A29DF1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C6098EE-0974-4829-94DD-7F559ABF42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44355B-AE4B-4BF9-8AB7-EF10056E5F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55D9C6-9395-470D-9F3B-AC166082EC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4A6B90-8DAA-486E-A112-2FC2617FB0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68F4F6-5FBB-426E-B38F-4687678EAC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7D5D3A-C1A6-4269-AA4D-CBC21654AF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2CACC1-00F0-43DC-B111-FA20248FD4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73A1BEF-6368-46D8-A186-A2BBA8D91C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494463-7986-4F9B-B6D8-836B7BBB63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F4D2A9-9F1B-4B2E-AD90-EE89DF4B08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E3517FB-72B5-4ECA-BC21-2868B26C67A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8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D861C20-75E8-4FB2-BD5F-150C315F3F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5C0468B-BB36-444D-A107-900252C69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F65B85-0321-44A3-B1AA-ADD7F79978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D201E6-F9ED-4A9C-AEFA-63067B783FF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3C1F1BA-117C-420E-97D2-8C5590D41CD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FD92F80-269F-49CC-9954-A00AA5C1A6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01C3726-789F-42EE-AD69-BCF4536BDDF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9F29ED-6527-460D-8560-ECC780A0493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0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E40FE36-276C-4AE5-83A2-92A81C615C1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1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1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C9783BC-8943-4994-8DC3-5AE64549F9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E315EEB-D9CC-4916-9D05-B45C80B050E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7293DA6A-ED2F-4873-8863-88E7F5F3031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1A3DF27-9A42-426E-B5FF-3C1FF9DB1D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D097B7-D019-4E29-8908-1DD89CF3D9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4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45531322-4B34-4E2D-9782-0B3CC2D48D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FABDCD2-B40F-4436-8674-A08BA219D09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FF919A6-29E6-479B-9DB7-0A1FF8F9032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CE0EE7D-4BCF-4C72-86E9-52B455A05C9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5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063252B-AC07-4A82-AFD0-916768B6A09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5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BEB3E86-2417-4F3A-BA0B-C70E4BADE2D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2E23940-50EA-4F1D-856C-6DF24202A9F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6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82BF7A6-5C31-45EC-9AE9-028B13A658D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78442A38-D922-4350-8B95-D80DFD454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8821A4D-DD9D-4B14-A1B0-6A0A06436FF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03B7C2-49D4-4818-8584-E29FD7EF6A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D2AE612-D0A7-4036-9308-D12CCBA9645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7A050EF-8CC4-4811-ABB6-E165621E40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53F919A-A946-40C4-A94E-847489AD0F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063AB3-952B-49ED-A5A6-44CE308A874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BC2F63-601D-4726-AAC6-81B21C2A37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22A134-7A4A-4BBC-A82E-AD94A3A0914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3F4D277-0785-4902-BCE1-8472120D89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4AE437-F6C6-4528-B298-2765F12749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3AE0E4-352A-44AB-89CD-BD806DEFF4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2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7E268A6-B55B-4036-B8C9-57F5DD9BEDA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147C3A-518B-4974-8E26-4809E26A42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3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3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F261FF-A596-4B87-8927-DF6DC89098B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7DFB14-1EA4-4821-ACE3-6C99B5683ED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DD37AE4-1AD5-40E7-9170-E87CB7244F7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569B362-011A-4358-BD0F-62E359C0796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6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D87FFB2-E17C-4993-92E3-48CF9E247D6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CF61D09D-567F-4DDF-8ECF-3F12EEE0A6F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1508CC-C23F-4FA8-9AA5-400010B88F1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B0D8410-9E4A-4B9F-BE16-48151207689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ADD7A8-B468-4FAC-8579-1DDB025AE7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7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0B72C08-BFA9-4CE4-BEA3-34FBEE5D44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795D4-DF8B-4982-9D42-C6532DF18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96A3D3A-5062-457B-A567-E618F6997E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8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8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61EE207-0262-49ED-B113-DF09815D23A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90EAD4E-3099-4978-B88D-B1E77354A9F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5E91B3-5137-47CC-8E59-183EF7BE6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499B7-D729-415E-9F47-FACFB0E5FC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EE621B-E77B-477E-9304-1862BBA2F03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D7D4B-2465-4458-BD0B-3AE7028493C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0" y="0"/>
            <a:ext cx="9144000" cy="6858000"/>
            <a:chOff x="0" y="0"/>
            <a:chExt cx="9144000" cy="6858000"/>
          </a:xfrm>
        </p:grpSpPr>
        <p:sp>
          <p:nvSpPr>
            <p:cNvPr id="156"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7"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58"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9" name=""/>
          <p:cNvGrpSpPr/>
          <p:nvPr/>
        </p:nvGrpSpPr>
        <p:grpSpPr>
          <a:xfrm>
            <a:off x="0" y="6019920"/>
            <a:ext cx="7848720" cy="857160"/>
            <a:chOff x="0" y="6019920"/>
            <a:chExt cx="7848720" cy="857160"/>
          </a:xfrm>
        </p:grpSpPr>
        <p:sp>
          <p:nvSpPr>
            <p:cNvPr id="160"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1" name=""/>
            <p:cNvGrpSpPr/>
            <p:nvPr/>
          </p:nvGrpSpPr>
          <p:grpSpPr>
            <a:xfrm>
              <a:off x="3946680" y="6019920"/>
              <a:ext cx="3902040" cy="857160"/>
              <a:chOff x="3946680" y="6019920"/>
              <a:chExt cx="3902040" cy="857160"/>
            </a:xfrm>
          </p:grpSpPr>
          <p:sp>
            <p:nvSpPr>
              <p:cNvPr id="162"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5"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6"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67"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627120" y="6021360"/>
            <a:ext cx="5684760" cy="849240"/>
            <a:chOff x="627120" y="6021360"/>
            <a:chExt cx="5684760" cy="849240"/>
          </a:xfrm>
        </p:grpSpPr>
        <p:sp>
          <p:nvSpPr>
            <p:cNvPr id="169"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0"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1"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2"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3"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4"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7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176"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77"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78"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79"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17025-134D-4982-8B80-7E8EA3536CF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16" name=""/>
          <p:cNvGrpSpPr/>
          <p:nvPr/>
        </p:nvGrpSpPr>
        <p:grpSpPr>
          <a:xfrm>
            <a:off x="-6480" y="20520"/>
            <a:ext cx="9144000" cy="6858000"/>
            <a:chOff x="-6480" y="20520"/>
            <a:chExt cx="9144000" cy="6858000"/>
          </a:xfrm>
        </p:grpSpPr>
        <p:sp>
          <p:nvSpPr>
            <p:cNvPr id="217"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19"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0" name=""/>
          <p:cNvGrpSpPr/>
          <p:nvPr/>
        </p:nvGrpSpPr>
        <p:grpSpPr>
          <a:xfrm>
            <a:off x="-1440" y="6033960"/>
            <a:ext cx="7844400" cy="850680"/>
            <a:chOff x="-1440" y="6033960"/>
            <a:chExt cx="7844400" cy="850680"/>
          </a:xfrm>
        </p:grpSpPr>
        <p:sp>
          <p:nvSpPr>
            <p:cNvPr id="221"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22" name=""/>
            <p:cNvGrpSpPr/>
            <p:nvPr/>
          </p:nvGrpSpPr>
          <p:grpSpPr>
            <a:xfrm>
              <a:off x="3944880" y="6033960"/>
              <a:ext cx="3898080" cy="850680"/>
              <a:chOff x="3944880" y="6033960"/>
              <a:chExt cx="3898080" cy="850680"/>
            </a:xfrm>
          </p:grpSpPr>
          <p:sp>
            <p:nvSpPr>
              <p:cNvPr id="223"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4"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8"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9" name=""/>
          <p:cNvGrpSpPr/>
          <p:nvPr/>
        </p:nvGrpSpPr>
        <p:grpSpPr>
          <a:xfrm>
            <a:off x="627120" y="6021360"/>
            <a:ext cx="5684760" cy="849240"/>
            <a:chOff x="627120" y="6021360"/>
            <a:chExt cx="5684760" cy="849240"/>
          </a:xfrm>
        </p:grpSpPr>
        <p:sp>
          <p:nvSpPr>
            <p:cNvPr id="230"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37" name="PlaceHolder 2"/>
          <p:cNvSpPr>
            <a:spLocks noGrp="1"/>
          </p:cNvSpPr>
          <p:nvPr>
            <p:ph type="dt" idx="10"/>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238" name="PlaceHolder 3"/>
          <p:cNvSpPr>
            <a:spLocks noGrp="1"/>
          </p:cNvSpPr>
          <p:nvPr>
            <p:ph type="sldNum" idx="11"/>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BA1FC-E8C9-4380-9189-ADB298B561B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239" name="PlaceHolder 4"/>
          <p:cNvSpPr>
            <a:spLocks noGrp="1"/>
          </p:cNvSpPr>
          <p:nvPr>
            <p:ph type="ftr" idx="12"/>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24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277" name=""/>
          <p:cNvGrpSpPr/>
          <p:nvPr/>
        </p:nvGrpSpPr>
        <p:grpSpPr>
          <a:xfrm>
            <a:off x="0" y="0"/>
            <a:ext cx="9144000" cy="6934320"/>
            <a:chOff x="0" y="0"/>
            <a:chExt cx="9144000" cy="6934320"/>
          </a:xfrm>
        </p:grpSpPr>
        <p:sp>
          <p:nvSpPr>
            <p:cNvPr id="27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28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9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97"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98"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9"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0"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99A4F-5094-4CF7-A45E-67BA6F8CF085}"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337" name=""/>
          <p:cNvGrpSpPr/>
          <p:nvPr/>
        </p:nvGrpSpPr>
        <p:grpSpPr>
          <a:xfrm>
            <a:off x="0" y="0"/>
            <a:ext cx="9144000" cy="6934320"/>
            <a:chOff x="0" y="0"/>
            <a:chExt cx="9144000" cy="6934320"/>
          </a:xfrm>
        </p:grpSpPr>
        <p:sp>
          <p:nvSpPr>
            <p:cNvPr id="338"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0"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1"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2"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3"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4"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5"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6"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7"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8"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49"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0"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1"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2"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3"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4"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5"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6"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357"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58" name="PlaceHolder 3"/>
          <p:cNvSpPr>
            <a:spLocks noGrp="1"/>
          </p:cNvSpPr>
          <p:nvPr>
            <p:ph type="ftr" idx="17"/>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59" name="PlaceHolder 4"/>
          <p:cNvSpPr>
            <a:spLocks noGrp="1"/>
          </p:cNvSpPr>
          <p:nvPr>
            <p:ph type="sldNum" idx="18"/>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5E5C88-ABB9-4F6C-BFCB-B243B4CBD426}"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8.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Истинный рецидив и «срыв»</a:t>
            </a:r>
            <a:endParaRPr b="0" lang="en-US" sz="5400" spc="-1" strike="noStrike">
              <a:solidFill>
                <a:srgbClr val="e3e3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утренние расстройства</a:t>
            </a:r>
            <a:endParaRPr b="0" lang="en-US" sz="4400" spc="-1" strike="noStrike">
              <a:solidFill>
                <a:srgbClr val="ccecff"/>
              </a:solidFill>
              <a:latin typeface="Arial"/>
            </a:endParaRPr>
          </a:p>
        </p:txBody>
      </p:sp>
      <p:sp>
        <p:nvSpPr>
          <p:cNvPr id="40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ясности мышления</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способность управлять чувствами и эмоциям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памя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арушение сна</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умение управлять стрессом</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Чувство стыда, вины, безнадежности</a:t>
            </a:r>
            <a:endParaRPr b="0" lang="en-US" sz="3200" spc="-1" strike="noStrike">
              <a:solidFill>
                <a:srgbClr val="ffffff"/>
              </a:solidFill>
              <a:latin typeface="Verdana"/>
            </a:endParaRPr>
          </a:p>
          <a:p>
            <a:pPr marL="343080" indent="-343080">
              <a:lnSpc>
                <a:spcPct val="90000"/>
              </a:lnSpc>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врат к самообману.</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Внешние расстройства</a:t>
            </a:r>
            <a:endParaRPr b="0" lang="en-US" sz="4400" spc="-1" strike="noStrike">
              <a:solidFill>
                <a:srgbClr val="ccecff"/>
              </a:solidFill>
              <a:latin typeface="Arial"/>
            </a:endParaRPr>
          </a:p>
        </p:txBody>
      </p:sp>
      <p:sp>
        <p:nvSpPr>
          <p:cNvPr id="41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становка на неудачу.</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ереход в оборону, капитуляция.</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Депрессия подавленность.</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Неадекватная реакция, раздражительность.</a:t>
            </a:r>
            <a:endParaRPr b="0" lang="en-US" sz="32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Потеря контроля</a:t>
            </a:r>
            <a:endParaRPr b="0" lang="en-US" sz="4400" spc="-1" strike="noStrike">
              <a:solidFill>
                <a:srgbClr val="ccecff"/>
              </a:solidFill>
              <a:latin typeface="Arial"/>
            </a:endParaRPr>
          </a:p>
        </p:txBody>
      </p:sp>
      <p:sp>
        <p:nvSpPr>
          <p:cNvPr id="41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арушение способности к суждению.</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Неумение противостоять импульсам.</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Потеря контроля над события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Сужение спектра возможностей (единственный путь – бросить все и поесть до отвал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Verdana"/>
              </a:rPr>
              <a:t>Эмоциональный или физический взрыв.</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ccecff"/>
                </a:solidFill>
                <a:latin typeface="Arial"/>
              </a:rPr>
              <a:t>Возвращение к старой привычке</a:t>
            </a:r>
            <a:endParaRPr b="0" lang="en-US" sz="4000" spc="-1" strike="noStrike">
              <a:solidFill>
                <a:srgbClr val="ccecff"/>
              </a:solidFill>
              <a:latin typeface="Arial"/>
            </a:endParaRPr>
          </a:p>
        </p:txBody>
      </p:sp>
      <p:sp>
        <p:nvSpPr>
          <p:cNvPr id="41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Гнетущее чувство стыда, вины и угрызение совест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Потеря контроля над собой.</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Возросшее число проблем со здоровьем.</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рыв» – это неконтролируемый по количеству, составу и времени однократный прием пищи с последующим возвратом к правильному питанию.</a:t>
            </a:r>
            <a:endParaRPr b="0" lang="en-US" sz="3200" spc="-1" strike="noStrike">
              <a:solidFill>
                <a:srgbClr val="ffffff"/>
              </a:solidFill>
              <a:latin typeface="Arial"/>
            </a:endParaRPr>
          </a:p>
          <a:p>
            <a:pPr marL="343080" indent="-343080" algn="ctr">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Рецидив» - это процесс систематического возврата к старой привычке (более двух дней).</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8" name="PlaceHolder 1"/>
          <p:cNvSpPr>
            <a:spLocks noGrp="1"/>
          </p:cNvSpPr>
          <p:nvPr>
            <p:ph/>
          </p:nvPr>
        </p:nvSpPr>
        <p:spPr>
          <a:xfrm>
            <a:off x="457200" y="1052280"/>
            <a:ext cx="8229600" cy="507348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Секрет успешного исцеления от зависимости – устремленность к конечной цели, т.е. истинной свободе в выборе полезной пищи.</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дельные «срывы» на этом пути могут быть. Но если вы остаетесь верны своему решению снизить вес, эти срывы не означают полного провала, если за первым перекусом не проследуют второй, третий, четвертый…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399" name="PlaceHolder 1"/>
          <p:cNvSpPr>
            <a:spLocks noGrp="1"/>
          </p:cNvSpPr>
          <p:nvPr>
            <p:ph/>
          </p:nvPr>
        </p:nvSpPr>
        <p:spPr>
          <a:xfrm>
            <a:off x="457200" y="981000"/>
            <a:ext cx="8229600" cy="5145120"/>
          </a:xfrm>
          <a:prstGeom prst="rect">
            <a:avLst/>
          </a:prstGeom>
          <a:noFill/>
          <a:ln w="0">
            <a:noFill/>
          </a:ln>
        </p:spPr>
        <p:txBody>
          <a:bodyPr lIns="90000" rIns="90000" tIns="46800" bIns="46800" anchor="t">
            <a:normAutofit/>
          </a:bodyPr>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Если произошел срыв, не надо судорожно «прячась» запихивать в себя еду, а спокойно спросите себя: «Что произошло? Зачем я сейчас ем? Какие предупредительные сигналы могли остановить меня? Кто был со мной в это время?».</a:t>
            </a:r>
            <a:endParaRPr b="0" lang="en-US" sz="3200" spc="-1" strike="noStrike">
              <a:solidFill>
                <a:srgbClr val="ffffff"/>
              </a:solidFill>
              <a:latin typeface="Arial"/>
            </a:endParaRPr>
          </a:p>
          <a:p>
            <a:pPr marL="343080" indent="-343080">
              <a:lnSpc>
                <a:spcPct val="90000"/>
              </a:lnSpc>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Ответы на эти вопросы расскажут вам о внешних и внутренних причинах и сопутствующих факторах вашей привычки.</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0" name="PlaceHolder 1"/>
          <p:cNvSpPr>
            <a:spLocks noGrp="1"/>
          </p:cNvSpPr>
          <p:nvPr>
            <p:ph/>
          </p:nvPr>
        </p:nvSpPr>
        <p:spPr>
          <a:xfrm>
            <a:off x="457200" y="333000"/>
            <a:ext cx="8229600" cy="604836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Учиться на ошибках – в этом секрет успеха.</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егодня наш девиз: «Поговори с собой по дружеск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бдумай срыв (если он произойдет) в конструктивном духе.</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Скажи себе: «Я сделал свой выбор», забудь о неудаче и продолжай питаться как ни в чем не бывало.</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1" name=""/>
          <p:cNvSpPr txBox="1"/>
          <p:nvPr/>
        </p:nvSpPr>
        <p:spPr>
          <a:xfrm>
            <a:off x="611280" y="1916280"/>
            <a:ext cx="7993080" cy="30254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000000"/>
                  </a:solidFill>
                  <a:miter/>
                </a:ln>
                <a:solidFill>
                  <a:srgbClr val="000000"/>
                </a:solidFill>
                <a:latin typeface="Impact"/>
              </a:rPr>
              <a:t>Процесс развития срыва</a:t>
            </a:r>
            <a:endParaRPr b="1" i="1" lang="en-US" sz="4400" spc="1" strike="noStrike">
              <a:ln w="9360">
                <a:solidFill>
                  <a:srgbClr val="000000"/>
                </a:solidFill>
                <a:miter/>
              </a:ln>
              <a:solidFill>
                <a:srgbClr val="000000"/>
              </a:solidFill>
              <a:latin typeface="Impact"/>
              <a:ea typeface="Impac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p:nvPr>
        </p:nvSpPr>
        <p:spPr>
          <a:xfrm>
            <a:off x="457200" y="2133360"/>
            <a:ext cx="8229600" cy="399708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Самообман – непризнание того, что вы попали в мертвую зону.</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Процесс снижения веса – это не прямолинейное движение из пункта «А» в пункт «Б». На этом пути могут быть вынужденные остановки, или «мертвые зоны».</a:t>
            </a:r>
            <a:endParaRPr b="0" lang="en-US" sz="2800" spc="-1" strike="noStrike">
              <a:solidFill>
                <a:srgbClr val="ffffff"/>
              </a:solidFill>
              <a:latin typeface="Times New Roman"/>
            </a:endParaRPr>
          </a:p>
          <a:p>
            <a:pPr marL="343080" indent="-343080">
              <a:lnSpc>
                <a:spcPct val="90000"/>
              </a:lnSpc>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Возможны отдельные срывы или переключение на другие виды зависимости.</a:t>
            </a:r>
            <a:endParaRPr b="0" lang="en-US" sz="2800" spc="-1" strike="noStrike">
              <a:solidFill>
                <a:srgbClr val="ffffff"/>
              </a:solidFill>
              <a:latin typeface="Times New Roman"/>
            </a:endParaRPr>
          </a:p>
        </p:txBody>
      </p:sp>
      <p:sp>
        <p:nvSpPr>
          <p:cNvPr id="403" name=""/>
          <p:cNvSpPr txBox="1"/>
          <p:nvPr/>
        </p:nvSpPr>
        <p:spPr>
          <a:xfrm>
            <a:off x="1692360" y="836640"/>
            <a:ext cx="5472000" cy="863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99ccff"/>
                  </a:solidFill>
                  <a:miter/>
                </a:ln>
                <a:solidFill>
                  <a:srgbClr val="0066cc"/>
                </a:solidFill>
                <a:effectLst>
                  <a:outerShdw dist="17819" dir="2700000" blurRad="0" rotWithShape="0">
                    <a:srgbClr val="990000"/>
                  </a:outerShdw>
                </a:effectLst>
                <a:latin typeface="Impact"/>
              </a:rPr>
              <a:t>Самообман</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404"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	</a:t>
            </a:r>
            <a:r>
              <a:rPr b="1" i="1" lang="en-US" sz="3200" spc="-1" strike="noStrike">
                <a:solidFill>
                  <a:srgbClr val="ffffff"/>
                </a:solidFill>
                <a:latin typeface="Times New Roman"/>
              </a:rPr>
              <a:t>- Особенности личности: </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Склонность к стрессу;</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редрасположенность к зависимости.</a:t>
            </a:r>
            <a:endParaRPr b="0" lang="en-US" sz="28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a:t>
            </a:r>
            <a:r>
              <a:rPr b="1" i="1" lang="en-US" sz="3200" spc="-1" strike="noStrike">
                <a:solidFill>
                  <a:srgbClr val="ffffff"/>
                </a:solidFill>
                <a:latin typeface="Times New Roman"/>
              </a:rPr>
              <a:t>- Особенность образа жизни:</a:t>
            </a:r>
            <a:endParaRPr b="0" lang="en-US" sz="32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	</a:t>
            </a:r>
            <a:r>
              <a:rPr b="0" lang="en-US" sz="2800" spc="-1" strike="noStrike">
                <a:solidFill>
                  <a:srgbClr val="ffffff"/>
                </a:solidFill>
                <a:latin typeface="Times New Roman"/>
              </a:rPr>
              <a:t>Перенапряжение, скука.</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Times New Roman"/>
              </a:rPr>
              <a:t>- Нездоровый образ жизни</a:t>
            </a:r>
            <a:r>
              <a:rPr b="0" lang="en-US" sz="3200" spc="-1" strike="noStrike">
                <a:solidFill>
                  <a:srgbClr val="ffffff"/>
                </a:solidFill>
                <a:latin typeface="Times New Roman"/>
              </a:rPr>
              <a:t> </a:t>
            </a:r>
            <a:r>
              <a:rPr b="0" lang="en-US" sz="2800" spc="-1" strike="noStrike">
                <a:solidFill>
                  <a:srgbClr val="ffffff"/>
                </a:solidFill>
                <a:latin typeface="Times New Roman"/>
              </a:rPr>
              <a:t>(злоупотребление алкоголем, недостаток сна и физической активности).</a:t>
            </a:r>
            <a:endParaRPr b="0" lang="en-US" sz="2800" spc="-1" strike="noStrike">
              <a:solidFill>
                <a:srgbClr val="ffffff"/>
              </a:solidFill>
              <a:latin typeface="Times New Roman"/>
            </a:endParaRPr>
          </a:p>
        </p:txBody>
      </p:sp>
      <p:sp>
        <p:nvSpPr>
          <p:cNvPr id="405" name=""/>
          <p:cNvSpPr txBox="1"/>
          <p:nvPr/>
        </p:nvSpPr>
        <p:spPr>
          <a:xfrm>
            <a:off x="1619280" y="692280"/>
            <a:ext cx="6229440" cy="10792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0000"/>
                </a:solidFill>
                <a:latin typeface="Arial"/>
              </a:rPr>
              <a:t>Факторы повышенного риска</a:t>
            </a:r>
            <a:endParaRPr b="0" lang="en-US" sz="1800" spc="1" strike="noStrike">
              <a:ln w="9360">
                <a:solidFill>
                  <a:srgbClr val="000000"/>
                </a:solidFill>
                <a:miter/>
              </a:ln>
              <a:solidFill>
                <a:srgbClr val="000000"/>
              </a:solidFill>
              <a:latin typeface="Arial"/>
              <a:ea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ccecff"/>
                </a:solidFill>
                <a:latin typeface="Arial"/>
              </a:rPr>
              <a:t>Факторы раздражители</a:t>
            </a:r>
            <a:endParaRPr b="0" lang="en-US" sz="4400" spc="-1" strike="noStrike">
              <a:solidFill>
                <a:srgbClr val="ccecff"/>
              </a:solidFill>
              <a:latin typeface="Arial"/>
            </a:endParaRPr>
          </a:p>
        </p:txBody>
      </p:sp>
      <p:sp>
        <p:nvSpPr>
          <p:cNvPr id="40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удные ситуации в общении с людьм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яжелые воспоминания из прошлого</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Тревожные мысл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Отрицательные эмоции</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6T13:53:45Z</dcterms:created>
  <dc:creator>cb</dc:creator>
  <dc:description/>
  <dc:language>en-US</dc:language>
  <cp:lastModifiedBy>Черевичная Вера Петровна</cp:lastModifiedBy>
  <dcterms:modified xsi:type="dcterms:W3CDTF">2007-03-11T14:19:38Z</dcterms:modified>
  <cp:revision>4</cp:revision>
  <dc:subject/>
  <dc:title>Истинный рецидив и «срыв»</dc:title>
</cp:coreProperties>
</file>